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C21D-3596-4033-B177-791BDB0A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5E7-114E-4118-886A-C54F203B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1BF-A39D-4BF0-A6F5-A40A7840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51D-7985-4B1F-B000-21A20169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D87-EA26-4C49-841C-765A66A4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14E7-04F9-4252-AAEE-CE544B2B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D547-7B52-46B4-BD79-0CF182B9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1A5-C967-4483-8EEA-5E0D73A2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85C6-8254-4685-94A2-956F0A88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C662-44B7-49B7-A6F8-04923B8B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093D-A2DE-4011-8F85-61C2A71E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A7CF-B413-4093-B1F5-92304F88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F9D-A955-4CBB-A371-3383A538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F873-EE17-4192-A6B7-C771E777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FA0B-021D-4D90-BF93-D107E10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6E4F-D24B-48E2-8952-F8475707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6345-5450-4107-BB73-A0B103CA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8683-68BC-4704-BA16-55E2DBC1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03B-5223-40C1-9922-114F5324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D04F-007A-47E8-B7A8-C9CCBCC1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211-A1B8-4FA6-AF90-2E1F26F5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C86C-D376-4989-8932-659657BC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5F2-F177-4163-82FF-E20C27D3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F26-0C39-4618-8EE8-7CE368A3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58E-0E39-4239-9F72-030B69D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39E3-528D-48B5-AB79-AA59F1F3FB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D6F-1083-4463-A123-41A4EE56E8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RomaK</cp:lastModifiedBy>
  <dcterms:modified xsi:type="dcterms:W3CDTF">2015-09-04T09:35:42Z</dcterms:modified>
  <cp:revision>8</cp:revision>
  <dc:subject/>
  <dc:title>What is culture? Standard 10.1</dc:title>
</cp:coreProperties>
</file>